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E74-B90E-4BAD-BB24-31B0BC6B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4B7-77CB-4260-B62B-81DE0B9C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13D-1533-4B91-B300-861BBC54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281-A28E-4AB8-B9A7-2A808212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8408-399B-43FA-85B2-2B15CD42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ABFC-0B71-4DA7-B141-4AC21D79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6534-1CC0-4D9A-821C-59F0D2DE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DA5F-2C63-4626-887C-4AD47489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97F1-618D-4B46-94A1-C1ACDA23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35A3-32DB-422B-B871-ABA10A68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5DBE-65E1-4447-90CB-790FB55B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531-E4BC-4EF8-AA26-26C4D82C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A859-33C4-4901-A2A9-A033840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CEEF-54CD-4C1C-B65B-46A2FDE9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A0A2-704F-42FB-8015-5C1388C3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9419-A274-4C9B-9C79-B242D33F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E626-48AA-47C1-8CCA-474F6070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2A3-0E70-4F51-A276-7F1B75AB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E13-0BE0-490C-AE22-227A8AF1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CA5-6388-4301-A206-D899C4F2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263-0EDF-4799-8A0E-99507BED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EB7-FD1F-4E5B-A538-5D62EF3E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B7C-99FA-40D3-A0C6-0B422614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400-20E7-43A6-9CFB-696E3D37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4363-2DDE-4F7D-AB47-9064163C32E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43A4-489A-4A39-A05D-3A8DA051B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DB67-83A0-4162-80CB-8ECA6D162039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9402-6D29-41B6-A656-602C40E8D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verview Of PowerPoin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art Deux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e Clause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 Cañada High Scho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 More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you didn’t get a chance to create your own PowerPoint Presentation (or maybe you did create one and your hard drive crashed - yes, the technological equivalent of “my dog ate my homework”), feel free to add more to this on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e Claus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F3E-38E6-4B1D-A733-27445F6B2F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2F0E2-CD9A-42AF-9736-DA35971025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sert Clip A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e way to insert clip art is to use the “Auto Layout” feature when adding a new slide to your presentation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econd way is using “Insert Picture…” from the Insert Menu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164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e Claus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28B-5774-43F6-9FC9-9D0FEB445D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ADE57-DD6A-49BF-9E33-01C9AED74C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sert Clip Art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e Claus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AD9-FEC2-4CC7-ACCF-D673079CAF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9FC11-FBC4-412A-85C7-3AAA2812B8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serting Graph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t’s add graphics to our presenta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 can use graphic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are installed on your computer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you buy and install from a CD-ROM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you download from the Internet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you draw with a graphics program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you capture with a digital camera or a scann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e Claus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8C6-EBD5-4ADA-8A38-5E620E2637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C2B73-423A-4945-B67D-08491854EB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serting graphics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e Claus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6B7-2B05-45DD-A7FA-FF1D58C6FE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072B1-A357-435F-BE83-1530BCD44E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ing soun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t’s add sound to this sli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 can use sou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are already on your computer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you buy and install from a CD-RO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you download from the Internet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you create yoursel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y recording your voic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y capturing a clip from an audio C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e Claus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EF3-D199-4C5F-B6EA-575C1FA9A9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02CE2-D448-4372-B29C-AFC9EABC03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lide Transi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e can create transitions for each slide, or have the same transition for every slid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 can choose which transition you would like for each slide, or have them randomly select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e Claus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CE5-3A40-43F8-86C9-186C6C47A0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B9833-9DD8-436D-8E71-9143148D02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i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object on a slide can have an “animation” effect, this include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lleted tex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phic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o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e can choose the order in which the animation occu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e Claus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D24-DAE6-4EC3-9213-C3FFCF535A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AD409-478F-4F3B-AA7D-B7D2BFE702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ustom Ani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t’s add some animation effects to this slid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lleted text by paragraph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p art ani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o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05520" y="4800600"/>
            <a:ext cx="3276360" cy="853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63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e Claus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B90-8095-4B18-84E2-2C97434AE3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07880-B4BC-4127-8A3B-7B3F0FC49E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9T17:10:56Z</dcterms:created>
  <dc:creator>Dave Clausen</dc:creator>
  <dc:description/>
  <dc:language>en-US</dc:language>
  <cp:lastModifiedBy>Dave Clausen</cp:lastModifiedBy>
  <dcterms:modified xsi:type="dcterms:W3CDTF">1997-12-19T22:21:46Z</dcterms:modified>
  <cp:revision>12</cp:revision>
  <dc:subject/>
  <dc:title>Overview Of PowerPoint Part Deux</dc:title>
</cp:coreProperties>
</file>